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996-DF56-4199-B83F-898923E5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749-2BC1-404A-AFA5-2F3E2FEE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0BE-4D5D-472D-A063-77161152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58F-4489-43B8-8A0A-0E8C343F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262-EF72-4A14-8406-68B0C0DC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576-3754-4DDB-8702-3FD5B70A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D3F-BA07-4FF8-9974-41A2E5AE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621-47D7-4396-8A44-E4321263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54B-61A6-4A28-8BCB-76950EC8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9BE-AC64-4A8C-AAF6-0667C422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74F-5103-480C-9114-C884C20F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868-E6A7-4FD7-A4ED-2330A59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BAE-D372-489D-8659-26350D9DB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1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etting and Memory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422440" y="0"/>
            <a:ext cx="4380120" cy="6248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Forg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information and Imagination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Amne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’s Eyewitness Re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sed or Constructed Memories of Ab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55480" y="1589040"/>
            <a:ext cx="8026560" cy="36831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Constru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62120" y="5410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iction of Actual Accid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55480" y="1576440"/>
            <a:ext cx="8026560" cy="3708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Constru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838080" y="5486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ed Mem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al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ed Forg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2280" y="2541600"/>
            <a:ext cx="8763120" cy="1631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etting as Encoding Fail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08120" y="712800"/>
            <a:ext cx="7721640" cy="543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Mem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55480" y="1195560"/>
            <a:ext cx="8026560" cy="44701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bbinghaus’ Forgetting Cur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5480" y="1017720"/>
            <a:ext cx="8026560" cy="482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getting Curve for Spanish Learned in Scho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40840" cy="2081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ieval Fail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5180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active and Retroactive Interfere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ychology  Mr. Plouffe  Korea International Scho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81040" y="1347840"/>
            <a:ext cx="7975440" cy="4165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oactive Interfere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5:46:48Z</dcterms:created>
  <dc:creator>bfw</dc:creator>
  <dc:description/>
  <dc:language>en-US</dc:language>
  <cp:lastModifiedBy>MacAdmin Kis</cp:lastModifiedBy>
  <dcterms:modified xsi:type="dcterms:W3CDTF">2009-04-28T06:03:04Z</dcterms:modified>
  <cp:revision>6</cp:revision>
  <dc:subject/>
  <dc:title>Module 27 Forgetting and Memory Construction</dc:title>
</cp:coreProperties>
</file>